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9144000" cy="6858000"/>
</p:presentation>
</file>

<file path=ppt/commentAuthors.xml><?xml version="1.0" encoding="utf-8"?>
<p:cmAuthorLst xmlns:p="http://schemas.openxmlformats.org/presentationml/2006/main">
  <p:cmAuthor id="0" name="Tura Giovanni Battista" initials="TG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3-11-06T17:44:32.011000000" idx="1">
    <p:pos x="6240" y="334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365A-66BE-40E8-B272-1C50E9D85E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1C67-D69B-46DA-928D-B05C9704B4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2580-0198-4BA3-A6F1-4F6AAE12CBB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2257-1F36-47F1-997B-00C34CB65B9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78DF-23D0-4519-B2FF-866247D119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4C5-F071-42B9-B1D7-38EBE1B9C2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AAF5-6045-4AEF-9629-FB9D781CBF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1873-E0DC-4CA8-BF46-D090B21489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0579-85AE-4C34-A6A2-20BF62F310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BBE3-84B7-4013-8B6F-37E4FC102E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8164-ABEC-4B6E-A153-F14F5CEA47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C6D3-A958-47F3-98B1-BE56D0B627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po di sommario, I op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8DD-C9E3-487E-9123-9E2ABECA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261-DDEB-4575-8BA5-9532FBAC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317-7229-4EE0-A99C-6094FF68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139-98E8-4EE0-B0B5-1C74762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252-63E2-4D10-8A99-CB30C551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223-67CE-42DD-9E03-1DD1058D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1FC-87F2-4D5D-AF91-D9AD8D4A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1A7-83B8-4F18-95AE-8A036858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E09-3E2D-42D8-A7F6-EFAD54A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683-4568-4EDF-B3E7-2187A8A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35C-7703-4146-9927-81101AA8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47F-F326-4344-8E63-D639ECE5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6D75-DB02-437B-B4E1-AB99ACB1071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1"/>
          <p:cNvGrpSpPr/>
          <p:nvPr/>
        </p:nvGrpSpPr>
        <p:grpSpPr>
          <a:xfrm>
            <a:off x="0" y="-1467000"/>
            <a:ext cx="9906120" cy="8194680"/>
            <a:chOff x="0" y="-1467000"/>
            <a:chExt cx="9906120" cy="8194680"/>
          </a:xfrm>
        </p:grpSpPr>
        <p:pic>
          <p:nvPicPr>
            <p:cNvPr id="49" name="Picture 15" descr=""/>
            <p:cNvPicPr/>
            <p:nvPr/>
          </p:nvPicPr>
          <p:blipFill>
            <a:blip r:embed="rId1"/>
            <a:stretch/>
          </p:blipFill>
          <p:spPr>
            <a:xfrm>
              <a:off x="0" y="-1467000"/>
              <a:ext cx="9902880" cy="27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8" descr=""/>
            <p:cNvPicPr/>
            <p:nvPr/>
          </p:nvPicPr>
          <p:blipFill>
            <a:blip r:embed="rId2"/>
            <a:srcRect l="0" t="36739" r="0" b="0"/>
            <a:stretch/>
          </p:blipFill>
          <p:spPr>
            <a:xfrm>
              <a:off x="2808360" y="5314680"/>
              <a:ext cx="70977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"/>
            <p:cNvPicPr/>
            <p:nvPr/>
          </p:nvPicPr>
          <p:blipFill>
            <a:blip r:embed="rId3"/>
            <a:srcRect l="0" t="0" r="75647" b="64631"/>
            <a:stretch/>
          </p:blipFill>
          <p:spPr>
            <a:xfrm>
              <a:off x="631800" y="5459400"/>
              <a:ext cx="172872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4840" y="1628280"/>
            <a:ext cx="85312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IL RUOLO DELL'IRCCS NELLA RETE DEI SERVIZI </a:t>
            </a: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PER LA SALUTE MENTALE: </a:t>
            </a: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PROGRAMMI  INNOVATIVI PER IL CITTAD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737240" y="4221000"/>
            <a:ext cx="44812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Giovanni Battista 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rebuchet ms"/>
              </a:rPr>
              <a:t>Dirigente Medico Struttura Complessa di Psichiat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trebuchet ms"/>
              </a:rPr>
              <a:t>IRCCS Centro S. Giovanni di Dio – FBF – Bres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336760" y="29052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2268"/>
                </a:solidFill>
                <a:latin typeface="Arial"/>
              </a:rPr>
              <a:t>La traslazionalità dalla ricerca e la clinic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2268"/>
                </a:solidFill>
                <a:latin typeface="Arial"/>
              </a:rPr>
              <a:t>dai servizi clinici ai percorsi innov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1"/>
          <p:cNvSpPr/>
          <p:nvPr/>
        </p:nvSpPr>
        <p:spPr>
          <a:xfrm>
            <a:off x="2763720" y="58680"/>
            <a:ext cx="5457960" cy="703800"/>
          </a:xfrm>
          <a:prstGeom prst="rect">
            <a:avLst/>
          </a:prstGeom>
          <a:noFill/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ptos"/>
              </a:rPr>
              <a:t>Conferenza per la Salute Men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ptos"/>
              </a:rPr>
              <a:t>10 novembre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6"/>
          <p:cNvGrpSpPr/>
          <p:nvPr/>
        </p:nvGrpSpPr>
        <p:grpSpPr>
          <a:xfrm>
            <a:off x="19080" y="-11160"/>
            <a:ext cx="9902880" cy="6858000"/>
            <a:chOff x="19080" y="-11160"/>
            <a:chExt cx="9902880" cy="6858000"/>
          </a:xfrm>
        </p:grpSpPr>
        <p:pic>
          <p:nvPicPr>
            <p:cNvPr id="130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19080" y="-1116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2"/>
            <a:stretch/>
          </p:blipFill>
          <p:spPr>
            <a:xfrm>
              <a:off x="38160" y="596088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14"/>
          <p:cNvSpPr/>
          <p:nvPr/>
        </p:nvSpPr>
        <p:spPr>
          <a:xfrm>
            <a:off x="2936880" y="1508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Disturbo borderline di person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magine 3" descr=""/>
          <p:cNvPicPr/>
          <p:nvPr/>
        </p:nvPicPr>
        <p:blipFill>
          <a:blip r:embed="rId3"/>
          <a:stretch/>
        </p:blipFill>
        <p:spPr>
          <a:xfrm>
            <a:off x="3440160" y="620640"/>
            <a:ext cx="4640040" cy="5910480"/>
          </a:xfrm>
          <a:prstGeom prst="rect">
            <a:avLst/>
          </a:prstGeom>
          <a:ln w="0">
            <a:noFill/>
          </a:ln>
        </p:spPr>
      </p:pic>
      <p:sp>
        <p:nvSpPr>
          <p:cNvPr id="134" name="Connettore 1 2"/>
          <p:cNvSpPr/>
          <p:nvPr/>
        </p:nvSpPr>
        <p:spPr>
          <a:xfrm>
            <a:off x="3440160" y="907920"/>
            <a:ext cx="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4"/>
          <p:cNvSpPr/>
          <p:nvPr/>
        </p:nvSpPr>
        <p:spPr>
          <a:xfrm>
            <a:off x="3224160" y="692280"/>
            <a:ext cx="0" cy="54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ttore 4 6"/>
          <p:cNvCxnSpPr/>
          <p:nvPr/>
        </p:nvCxnSpPr>
        <p:spPr>
          <a:xfrm flipH="1" flipV="1" rot="5400000">
            <a:off x="6033240" y="3356280"/>
            <a:ext cx="2448360" cy="1008720"/>
          </a:xfrm>
          <a:prstGeom prst="bentConnector3">
            <a:avLst>
              <a:gd name="adj1" fmla="val -108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6"/>
          <p:cNvGrpSpPr/>
          <p:nvPr/>
        </p:nvGrpSpPr>
        <p:grpSpPr>
          <a:xfrm>
            <a:off x="19080" y="-11160"/>
            <a:ext cx="9902880" cy="6858000"/>
            <a:chOff x="19080" y="-11160"/>
            <a:chExt cx="9902880" cy="6858000"/>
          </a:xfrm>
        </p:grpSpPr>
        <p:pic>
          <p:nvPicPr>
            <p:cNvPr id="138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19080" y="-1116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"/>
            <p:cNvPicPr/>
            <p:nvPr/>
          </p:nvPicPr>
          <p:blipFill>
            <a:blip r:embed="rId2"/>
            <a:stretch/>
          </p:blipFill>
          <p:spPr>
            <a:xfrm>
              <a:off x="38160" y="596088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 Box 14"/>
          <p:cNvSpPr/>
          <p:nvPr/>
        </p:nvSpPr>
        <p:spPr>
          <a:xfrm>
            <a:off x="2936880" y="15084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VALUTAZIONE ED ORIENTAMENTO TERAPEUTICO DEL PAZIENTE PSICHIATRICO  in COMORBIDITÀ CON DECADIMENTO COGNITIVO INI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Diagramma 7" descr=""/>
          <p:cNvPicPr/>
          <p:nvPr/>
        </p:nvPicPr>
        <p:blipFill>
          <a:blip r:embed="rId3"/>
          <a:stretch/>
        </p:blipFill>
        <p:spPr>
          <a:xfrm>
            <a:off x="647640" y="1409760"/>
            <a:ext cx="8724960" cy="4991040"/>
          </a:xfrm>
          <a:prstGeom prst="rect">
            <a:avLst/>
          </a:prstGeom>
          <a:ln w="0">
            <a:noFill/>
          </a:ln>
        </p:spPr>
      </p:pic>
      <p:sp>
        <p:nvSpPr>
          <p:cNvPr id="142" name="CasellaDiTesto 1"/>
          <p:cNvSpPr/>
          <p:nvPr/>
        </p:nvSpPr>
        <p:spPr>
          <a:xfrm>
            <a:off x="7329600" y="2476440"/>
            <a:ext cx="2447640" cy="21481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** VALORE AGGIU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PER IL PZ e familia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333399"/>
                </a:solidFill>
                <a:latin typeface="Arial"/>
              </a:rPr>
              <a:t>Multidisciplinarità nello stesso contesto di tempo e spazio delle co-valutazio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333399"/>
                </a:solidFill>
                <a:latin typeface="Arial"/>
              </a:rPr>
              <a:t>Restituzione congiunta e condivisa delle due discip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333399"/>
                </a:solidFill>
                <a:latin typeface="Arial"/>
              </a:rPr>
              <a:t>Azione terapeutico/riabilitativa sinergica e concor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6"/>
          <p:cNvGrpSpPr/>
          <p:nvPr/>
        </p:nvGrpSpPr>
        <p:grpSpPr>
          <a:xfrm>
            <a:off x="19080" y="-1144440"/>
            <a:ext cx="9902880" cy="7975440"/>
            <a:chOff x="19080" y="-1144440"/>
            <a:chExt cx="9902880" cy="7975440"/>
          </a:xfrm>
        </p:grpSpPr>
        <p:pic>
          <p:nvPicPr>
            <p:cNvPr id="57" name="Picture 15" descr=""/>
            <p:cNvPicPr/>
            <p:nvPr/>
          </p:nvPicPr>
          <p:blipFill>
            <a:blip r:embed="rId1"/>
            <a:stretch/>
          </p:blipFill>
          <p:spPr>
            <a:xfrm>
              <a:off x="19080" y="-1144440"/>
              <a:ext cx="9902880" cy="27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6" descr=""/>
            <p:cNvPicPr/>
            <p:nvPr/>
          </p:nvPicPr>
          <p:blipFill>
            <a:blip r:embed="rId2"/>
            <a:stretch/>
          </p:blipFill>
          <p:spPr>
            <a:xfrm>
              <a:off x="128520" y="5945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 Box 14"/>
          <p:cNvSpPr/>
          <p:nvPr/>
        </p:nvSpPr>
        <p:spPr>
          <a:xfrm>
            <a:off x="2860560" y="476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a traslazionalità dalla ricerca e la clinic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dai servizi clinici ai percorsi innov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asellaDiTesto 2" descr=""/>
          <p:cNvPicPr/>
          <p:nvPr/>
        </p:nvPicPr>
        <p:blipFill>
          <a:blip r:embed="rId3"/>
          <a:stretch/>
        </p:blipFill>
        <p:spPr>
          <a:xfrm>
            <a:off x="800280" y="1917720"/>
            <a:ext cx="7124400" cy="273060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3"/>
          <p:cNvSpPr/>
          <p:nvPr/>
        </p:nvSpPr>
        <p:spPr>
          <a:xfrm>
            <a:off x="5024520" y="4481640"/>
            <a:ext cx="26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www.salute.gov.it/port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1"/>
          <p:cNvSpPr/>
          <p:nvPr/>
        </p:nvSpPr>
        <p:spPr>
          <a:xfrm>
            <a:off x="1371600" y="5229360"/>
            <a:ext cx="2521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Open Sans"/>
              </a:rPr>
              <a:t>Fruizione dir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3"/>
          <p:cNvSpPr/>
          <p:nvPr/>
        </p:nvSpPr>
        <p:spPr>
          <a:xfrm>
            <a:off x="6386400" y="5254560"/>
            <a:ext cx="28814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«Cultura» del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4"/>
          <p:cNvSpPr/>
          <p:nvPr/>
        </p:nvSpPr>
        <p:spPr>
          <a:xfrm>
            <a:off x="4334040" y="5629320"/>
            <a:ext cx="1616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tta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66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14"/>
          <p:cNvSpPr/>
          <p:nvPr/>
        </p:nvSpPr>
        <p:spPr>
          <a:xfrm>
            <a:off x="2865600" y="392040"/>
            <a:ext cx="59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Cittadini e ri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84520" y="963720"/>
          <a:ext cx="7200720" cy="493056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Come «fare cultura» verso la ricerc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rvizi clinici e risposte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bisogni di salute capaci di garantire alcune attese (efficacia, tempistica, facilità di fruizione, ambienti di cura di qualità) sono i migliori strumenti per aumentare la «cultura» del cittadino rispetto al proprio ruolo nel campo della ricerca superando le ancora diffuse resistenze (diffidenza, complessità, «fatica», tempo aggiuntivo dedica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lità dell’assistenz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della cura come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antaggio percepi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quindi motore della reciprocità cittadino-ricer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involgimento attiv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e diverse fasi (progettazione, applicazione, restituzione) di pz e famili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te di serviz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«continuità» con altri luoghi della salute (in primis psichiatria territoriale, MMG, altre specialità) – condivisione di progettualità condivise e trasferib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6"/>
          <p:cNvGrpSpPr/>
          <p:nvPr/>
        </p:nvGrpSpPr>
        <p:grpSpPr>
          <a:xfrm>
            <a:off x="3240" y="-15840"/>
            <a:ext cx="9902880" cy="6851520"/>
            <a:chOff x="3240" y="-15840"/>
            <a:chExt cx="9902880" cy="6851520"/>
          </a:xfrm>
        </p:grpSpPr>
        <p:pic>
          <p:nvPicPr>
            <p:cNvPr id="71" name="Picture 15" descr=""/>
            <p:cNvPicPr/>
            <p:nvPr/>
          </p:nvPicPr>
          <p:blipFill>
            <a:blip r:embed="rId1"/>
            <a:srcRect l="0" t="44330" r="0" b="0"/>
            <a:stretch/>
          </p:blipFill>
          <p:spPr>
            <a:xfrm>
              <a:off x="3240" y="-15840"/>
              <a:ext cx="990288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3240" y="594972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0" y="711360"/>
          <a:ext cx="9902880" cy="6499080"/>
        </p:xfrm>
        <a:graphic>
          <a:graphicData uri="http://schemas.openxmlformats.org/drawingml/2006/table">
            <a:tbl>
              <a:tblPr/>
              <a:tblGrid>
                <a:gridCol w="3078000"/>
                <a:gridCol w="560520"/>
                <a:gridCol w="1436760"/>
                <a:gridCol w="2395440"/>
                <a:gridCol w="647640"/>
                <a:gridCol w="1784520"/>
              </a:tblGrid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RICE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 rowSpan="1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LI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dcc6"/>
                    </a:solidFill>
                  </a:tcPr>
                </a:tc>
              </a:tr>
              <a:tr h="56664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Unità specifich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hiatri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hiatria Epidemiolog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hiatria Biolog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atori Molecolari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psicologi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fisiologi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immagine 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informat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etica 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ab Alzhe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5x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Progetti innovativi 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(TR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BULATORI</a:t>
                      </a: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(CP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rogettua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pecific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M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ervizi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III set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operazione So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cu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. DI RIABILITAZIONE OSPEDAL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16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AMBULATORI SPECIF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alut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ultidisciplin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morbil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Umore/Cognitiv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00">
                <a:tc rowSpan="6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rogrammi terapeutici 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sicoeducazionali  pe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epressione resist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epressione con dec cogn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isturbo bipo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dist. di person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comorbidità somati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- stile di v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supporto famili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c1c1d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nse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rofilazione psicodiagno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2c4a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po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gra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arginalità so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lazion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Co-gestione 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Unità di Rice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14"/>
          <p:cNvSpPr/>
          <p:nvPr/>
        </p:nvSpPr>
        <p:spPr>
          <a:xfrm>
            <a:off x="2792520" y="889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Ricerca e cli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rchitettura della traslazion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uppo 7180"/>
          <p:cNvGrpSpPr/>
          <p:nvPr/>
        </p:nvGrpSpPr>
        <p:grpSpPr>
          <a:xfrm>
            <a:off x="7544520" y="2349000"/>
            <a:ext cx="462960" cy="3696480"/>
            <a:chOff x="7544520" y="2349000"/>
            <a:chExt cx="462960" cy="3696480"/>
          </a:xfrm>
        </p:grpSpPr>
        <p:grpSp>
          <p:nvGrpSpPr>
            <p:cNvPr id="76" name="Gruppo 14"/>
            <p:cNvGrpSpPr/>
            <p:nvPr/>
          </p:nvGrpSpPr>
          <p:grpSpPr>
            <a:xfrm>
              <a:off x="7568640" y="5828760"/>
              <a:ext cx="433800" cy="216720"/>
              <a:chOff x="7568640" y="5828760"/>
              <a:chExt cx="433800" cy="216720"/>
            </a:xfrm>
          </p:grpSpPr>
          <p:cxnSp>
            <p:nvCxnSpPr>
              <p:cNvPr id="77" name="Connettore 2 15"/>
              <p:cNvCxnSpPr/>
              <p:nvPr/>
            </p:nvCxnSpPr>
            <p:spPr>
              <a:xfrm>
                <a:off x="7569000" y="582876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78" name="Connettore 2 16"/>
              <p:cNvCxnSpPr/>
              <p:nvPr/>
            </p:nvCxnSpPr>
            <p:spPr>
              <a:xfrm flipH="1">
                <a:off x="7568640" y="604476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79" name="Gruppo 22"/>
            <p:cNvGrpSpPr/>
            <p:nvPr/>
          </p:nvGrpSpPr>
          <p:grpSpPr>
            <a:xfrm>
              <a:off x="7568640" y="4668840"/>
              <a:ext cx="433800" cy="216720"/>
              <a:chOff x="7568640" y="4668840"/>
              <a:chExt cx="433800" cy="216720"/>
            </a:xfrm>
          </p:grpSpPr>
          <p:cxnSp>
            <p:nvCxnSpPr>
              <p:cNvPr id="80" name="Connettore 2 24"/>
              <p:cNvCxnSpPr/>
              <p:nvPr/>
            </p:nvCxnSpPr>
            <p:spPr>
              <a:xfrm>
                <a:off x="7569000" y="466884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81" name="Connettore 2 25"/>
              <p:cNvCxnSpPr/>
              <p:nvPr/>
            </p:nvCxnSpPr>
            <p:spPr>
              <a:xfrm flipH="1">
                <a:off x="7568640" y="488484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82" name="Gruppo 7174"/>
            <p:cNvGrpSpPr/>
            <p:nvPr/>
          </p:nvGrpSpPr>
          <p:grpSpPr>
            <a:xfrm>
              <a:off x="7573680" y="3508920"/>
              <a:ext cx="433800" cy="216720"/>
              <a:chOff x="7573680" y="3508920"/>
              <a:chExt cx="433800" cy="216720"/>
            </a:xfrm>
          </p:grpSpPr>
          <p:cxnSp>
            <p:nvCxnSpPr>
              <p:cNvPr id="83" name="Connettore 2 7175"/>
              <p:cNvCxnSpPr/>
              <p:nvPr/>
            </p:nvCxnSpPr>
            <p:spPr>
              <a:xfrm>
                <a:off x="7574040" y="350892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84" name="Connettore 2 7176"/>
              <p:cNvCxnSpPr/>
              <p:nvPr/>
            </p:nvCxnSpPr>
            <p:spPr>
              <a:xfrm flipH="1">
                <a:off x="7573680" y="372492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85" name="Gruppo 7177"/>
            <p:cNvGrpSpPr/>
            <p:nvPr/>
          </p:nvGrpSpPr>
          <p:grpSpPr>
            <a:xfrm>
              <a:off x="7544520" y="2349000"/>
              <a:ext cx="433800" cy="216720"/>
              <a:chOff x="7544520" y="2349000"/>
              <a:chExt cx="433800" cy="216720"/>
            </a:xfrm>
          </p:grpSpPr>
          <p:cxnSp>
            <p:nvCxnSpPr>
              <p:cNvPr id="86" name="Connettore 2 7178"/>
              <p:cNvCxnSpPr/>
              <p:nvPr/>
            </p:nvCxnSpPr>
            <p:spPr>
              <a:xfrm>
                <a:off x="7544880" y="234900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87" name="Connettore 2 7179"/>
              <p:cNvCxnSpPr/>
              <p:nvPr/>
            </p:nvCxnSpPr>
            <p:spPr>
              <a:xfrm flipH="1">
                <a:off x="7544520" y="2565000"/>
                <a:ext cx="43380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88" name="Gruppo 7181"/>
          <p:cNvGrpSpPr/>
          <p:nvPr/>
        </p:nvGrpSpPr>
        <p:grpSpPr>
          <a:xfrm>
            <a:off x="3155400" y="2249280"/>
            <a:ext cx="460800" cy="3696120"/>
            <a:chOff x="3155400" y="2249280"/>
            <a:chExt cx="460800" cy="3696120"/>
          </a:xfrm>
        </p:grpSpPr>
        <p:grpSp>
          <p:nvGrpSpPr>
            <p:cNvPr id="89" name="Gruppo 7182"/>
            <p:cNvGrpSpPr/>
            <p:nvPr/>
          </p:nvGrpSpPr>
          <p:grpSpPr>
            <a:xfrm>
              <a:off x="3179520" y="5728680"/>
              <a:ext cx="431640" cy="216720"/>
              <a:chOff x="3179520" y="5728680"/>
              <a:chExt cx="431640" cy="216720"/>
            </a:xfrm>
          </p:grpSpPr>
          <p:cxnSp>
            <p:nvCxnSpPr>
              <p:cNvPr id="90" name="Connettore 2 7192"/>
              <p:cNvCxnSpPr/>
              <p:nvPr/>
            </p:nvCxnSpPr>
            <p:spPr>
              <a:xfrm>
                <a:off x="3179880" y="57286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91" name="Connettore 2 7193"/>
              <p:cNvCxnSpPr/>
              <p:nvPr/>
            </p:nvCxnSpPr>
            <p:spPr>
              <a:xfrm flipH="1">
                <a:off x="3179520" y="59446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92" name="Gruppo 7183"/>
            <p:cNvGrpSpPr/>
            <p:nvPr/>
          </p:nvGrpSpPr>
          <p:grpSpPr>
            <a:xfrm>
              <a:off x="3179520" y="4568760"/>
              <a:ext cx="431640" cy="216720"/>
              <a:chOff x="3179520" y="4568760"/>
              <a:chExt cx="431640" cy="216720"/>
            </a:xfrm>
          </p:grpSpPr>
          <p:cxnSp>
            <p:nvCxnSpPr>
              <p:cNvPr id="93" name="Connettore 2 7190"/>
              <p:cNvCxnSpPr/>
              <p:nvPr/>
            </p:nvCxnSpPr>
            <p:spPr>
              <a:xfrm>
                <a:off x="3179880" y="456876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94" name="Connettore 2 7191"/>
              <p:cNvCxnSpPr/>
              <p:nvPr/>
            </p:nvCxnSpPr>
            <p:spPr>
              <a:xfrm flipH="1">
                <a:off x="3179520" y="478476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95" name="Gruppo 7184"/>
            <p:cNvGrpSpPr/>
            <p:nvPr/>
          </p:nvGrpSpPr>
          <p:grpSpPr>
            <a:xfrm>
              <a:off x="3184560" y="3408840"/>
              <a:ext cx="431640" cy="216720"/>
              <a:chOff x="3184560" y="3408840"/>
              <a:chExt cx="431640" cy="216720"/>
            </a:xfrm>
          </p:grpSpPr>
          <p:cxnSp>
            <p:nvCxnSpPr>
              <p:cNvPr id="96" name="Connettore 2 7188"/>
              <p:cNvCxnSpPr/>
              <p:nvPr/>
            </p:nvCxnSpPr>
            <p:spPr>
              <a:xfrm>
                <a:off x="3184920" y="340884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97" name="Connettore 2 7189"/>
              <p:cNvCxnSpPr/>
              <p:nvPr/>
            </p:nvCxnSpPr>
            <p:spPr>
              <a:xfrm flipH="1">
                <a:off x="3184560" y="362484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  <p:grpSp>
          <p:nvGrpSpPr>
            <p:cNvPr id="98" name="Gruppo 7185"/>
            <p:cNvGrpSpPr/>
            <p:nvPr/>
          </p:nvGrpSpPr>
          <p:grpSpPr>
            <a:xfrm>
              <a:off x="3155400" y="2249280"/>
              <a:ext cx="431640" cy="216720"/>
              <a:chOff x="3155400" y="2249280"/>
              <a:chExt cx="431640" cy="216720"/>
            </a:xfrm>
          </p:grpSpPr>
          <p:cxnSp>
            <p:nvCxnSpPr>
              <p:cNvPr id="99" name="Connettore 2 7186"/>
              <p:cNvCxnSpPr/>
              <p:nvPr/>
            </p:nvCxnSpPr>
            <p:spPr>
              <a:xfrm>
                <a:off x="3155760" y="22492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  <p:cxnSp>
            <p:nvCxnSpPr>
              <p:cNvPr id="100" name="Connettore 2 7187"/>
              <p:cNvCxnSpPr/>
              <p:nvPr/>
            </p:nvCxnSpPr>
            <p:spPr>
              <a:xfrm flipH="1">
                <a:off x="3155400" y="2465280"/>
                <a:ext cx="431640" cy="1080"/>
              </a:xfrm>
              <a:prstGeom prst="straightConnector1">
                <a:avLst/>
              </a:prstGeom>
              <a:ln w="9360">
                <a:solidFill>
                  <a:srgbClr val="405b5e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02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14"/>
          <p:cNvSpPr/>
          <p:nvPr/>
        </p:nvSpPr>
        <p:spPr>
          <a:xfrm>
            <a:off x="2865600" y="39204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a traslazionalità dalla ricerca e la cli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mbiente come «cur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1824120"/>
          <a:ext cx="7165800" cy="4454280"/>
        </p:xfrm>
        <a:graphic>
          <a:graphicData uri="http://schemas.openxmlformats.org/drawingml/2006/table">
            <a:tbl>
              <a:tblPr/>
              <a:tblGrid>
                <a:gridCol w="71658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Unità di Riabilitazione Ospedaliera «Bonardi»  (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8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TTERISTICH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tà della persona e del suo funzionamento personale e sociale vs criteri patologici categor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volgimento diretto nelle azioni mirate al percorso di c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volgimento diretto del pz nella gestione dell’ambiente di c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guità-continuità fra momento della cura e momento della riabilitazione (utilizzo delle risorse attive e del personale repertorio funzion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uzione del gap fra ambiente di cura e ambiente di v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roposta  in ambiente terapeutico delle dinamiche tipiche dell’ordinario ambiente di vita (collaborazioni interpz, organizzazione della quotidianità, uso di abilità di interazione per prassi concre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ccio multidisciplin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li attivi anche in tema di salute fisica e stile di vi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 dei protocolli traslazionali in ambiente in parte sovrapponibile a quello naturale di vi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07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 Box 14"/>
          <p:cNvSpPr/>
          <p:nvPr/>
        </p:nvSpPr>
        <p:spPr>
          <a:xfrm>
            <a:off x="2865600" y="39204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rchitettura della Unità di Riabilit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Ambiente - équ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magine 5" descr=""/>
          <p:cNvPicPr/>
          <p:nvPr/>
        </p:nvPicPr>
        <p:blipFill>
          <a:blip r:embed="rId3"/>
          <a:stretch/>
        </p:blipFill>
        <p:spPr>
          <a:xfrm>
            <a:off x="4813200" y="3141720"/>
            <a:ext cx="4954680" cy="3446280"/>
          </a:xfrm>
          <a:prstGeom prst="rect">
            <a:avLst/>
          </a:prstGeom>
          <a:ln w="0">
            <a:noFill/>
          </a:ln>
        </p:spPr>
      </p:pic>
      <p:pic>
        <p:nvPicPr>
          <p:cNvPr id="111" name="Immagine 3" descr=""/>
          <p:cNvPicPr/>
          <p:nvPr/>
        </p:nvPicPr>
        <p:blipFill>
          <a:blip r:embed="rId4"/>
          <a:stretch/>
        </p:blipFill>
        <p:spPr>
          <a:xfrm>
            <a:off x="560520" y="2492280"/>
            <a:ext cx="4049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13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14"/>
          <p:cNvSpPr/>
          <p:nvPr/>
        </p:nvSpPr>
        <p:spPr>
          <a:xfrm>
            <a:off x="2865600" y="39204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a traslazionalità dalla ricerca e la cli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5815d"/>
                </a:solidFill>
                <a:latin typeface="Arial"/>
              </a:rPr>
              <a:t>l’ambiente come «cur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39800" y="1585800"/>
          <a:ext cx="7561440" cy="4646880"/>
        </p:xfrm>
        <a:graphic>
          <a:graphicData uri="http://schemas.openxmlformats.org/drawingml/2006/table">
            <a:tbl>
              <a:tblPr/>
              <a:tblGrid>
                <a:gridCol w="3643560"/>
                <a:gridCol w="3917880"/>
              </a:tblGrid>
              <a:tr h="43668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Residence Bonardi – caratteristiche popolazione 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b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Numerosità 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62 pazi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Genere (F / 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137 / 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6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Età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49 aa ± 17 aa   *** (</a:t>
                      </a:r>
                      <a:r>
                        <a:rPr b="0" i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% under 25 aa</a:t>
                      </a: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iagnosi I (tot. 2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51% dist. dell’u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0% dist. personal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9% altro (psicos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15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Diagnosi II (tot. 19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5% dist. personal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25% dist. uso sostan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8%   dist. u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c1c1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Altro (patologie d’organo maggior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Persone in carico ai D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59% (</a:t>
                      </a:r>
                      <a:r>
                        <a:rPr b="0" i="1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 cui 60 % post SDPC</a:t>
                      </a:r>
                      <a:r>
                        <a:rPr b="0" lang="it-IT" sz="1600" spc="-1" strike="noStrike">
                          <a:solidFill>
                            <a:srgbClr val="0c1c1d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6"/>
          <p:cNvGrpSpPr/>
          <p:nvPr/>
        </p:nvGrpSpPr>
        <p:grpSpPr>
          <a:xfrm>
            <a:off x="-19080" y="0"/>
            <a:ext cx="9902880" cy="6858000"/>
            <a:chOff x="-19080" y="0"/>
            <a:chExt cx="9902880" cy="6858000"/>
          </a:xfrm>
        </p:grpSpPr>
        <p:pic>
          <p:nvPicPr>
            <p:cNvPr id="118" name="Picture 15" descr=""/>
            <p:cNvPicPr/>
            <p:nvPr/>
          </p:nvPicPr>
          <p:blipFill>
            <a:blip r:embed="rId1"/>
            <a:srcRect l="0" t="46995" r="0" b="0"/>
            <a:stretch/>
          </p:blipFill>
          <p:spPr>
            <a:xfrm>
              <a:off x="-19080" y="0"/>
              <a:ext cx="990288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9440" y="563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30569"/>
                </a:solidFill>
                <a:latin typeface="Open Sans"/>
              </a:rPr>
              <a:t>Macroattività ambulatoriale </a:t>
            </a:r>
            <a:br>
              <a:rPr sz="2400"/>
            </a:br>
            <a:r>
              <a:rPr b="1" lang="it-IT" sz="2400" spc="-1" strike="noStrike">
                <a:solidFill>
                  <a:srgbClr val="030569"/>
                </a:solidFill>
                <a:latin typeface="Open Sans"/>
              </a:rPr>
              <a:t>ad alta complessità assistenziale (MAC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1800" y="1530000"/>
            <a:ext cx="84200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TTING FUNZIONALE ALLA TRASLAZIONALITA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esso settim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mpistica am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in media semestral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quipe multidiscipl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MEDICO SPECIALISTA (PLURISPECIALITÀ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FERMI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ERP – EDUCA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SICO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KY -  DIET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iano di interventi artico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ALUTAZIONE CLINICA, VISITA E RACCOLTA ANAMNESI PZ E FAMILI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ALUTAZIONE DEI BISOGNI RIFERITI ALLA SALUTE PSICO-FISICA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ALUTAZIONE DEL PROFILO FUN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OQUI CLI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MONITORAGGIO SALUTE PSICO-FIS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RVENTI RIABILITATIVI INDIVIDUALI E/O DI GRUPPO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RVENTI PSICOEDUCAZI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OQUI CON I FAMILI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8"/>
          <p:cNvSpPr/>
          <p:nvPr/>
        </p:nvSpPr>
        <p:spPr>
          <a:xfrm>
            <a:off x="5529240" y="5329080"/>
            <a:ext cx="2519280" cy="825480"/>
          </a:xfrm>
          <a:prstGeom prst="rect">
            <a:avLst/>
          </a:prstGeom>
          <a:solidFill>
            <a:srgbClr val="daedef"/>
          </a:solidFill>
          <a:ln w="12600">
            <a:solidFill>
              <a:srgbClr val="5b6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rammi trasl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9"/>
          <p:cNvSpPr/>
          <p:nvPr/>
        </p:nvSpPr>
        <p:spPr>
          <a:xfrm>
            <a:off x="5168880" y="3300480"/>
            <a:ext cx="2232000" cy="825480"/>
          </a:xfrm>
          <a:prstGeom prst="rect">
            <a:avLst/>
          </a:prstGeom>
          <a:solidFill>
            <a:srgbClr val="bbe0e3"/>
          </a:solidFill>
          <a:ln w="1260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e profession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6"/>
          <p:cNvGrpSpPr/>
          <p:nvPr/>
        </p:nvGrpSpPr>
        <p:grpSpPr>
          <a:xfrm>
            <a:off x="0" y="0"/>
            <a:ext cx="9904320" cy="6858000"/>
            <a:chOff x="0" y="0"/>
            <a:chExt cx="9904320" cy="6858000"/>
          </a:xfrm>
        </p:grpSpPr>
        <p:pic>
          <p:nvPicPr>
            <p:cNvPr id="125" name="Picture 15" descr=""/>
            <p:cNvPicPr/>
            <p:nvPr/>
          </p:nvPicPr>
          <p:blipFill>
            <a:blip r:embed="rId1"/>
            <a:srcRect l="0" t="44330" r="0" b="0"/>
            <a:stretch/>
          </p:blipFill>
          <p:spPr>
            <a:xfrm>
              <a:off x="1440" y="0"/>
              <a:ext cx="990288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972040"/>
              <a:ext cx="1243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3920" y="58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Open Sans"/>
                <a:ea typeface="Open Sans"/>
              </a:rPr>
              <a:t>Popolazioni spe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39440" y="175248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pt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ptos"/>
              </a:rPr>
              <a:t>Migr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pt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ptos"/>
              </a:rPr>
              <a:t>Collaborazione con agenzie territoriali d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K-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Associazione Ambasciata della Democrazia Locale a Zavidovici (A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pt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pto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ptos"/>
              </a:rPr>
              <a:t>Progetti di rete con ASST – D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F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pto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ptos"/>
              </a:rPr>
              <a:t>Progetto SAI DM </a:t>
            </a:r>
            <a:r>
              <a:rPr b="0" lang="it-IT" sz="1800" spc="-1" strike="noStrike">
                <a:solidFill>
                  <a:srgbClr val="000000"/>
                </a:solidFill>
                <a:latin typeface="Aptos"/>
                <a:ea typeface="Calibri"/>
              </a:rPr>
              <a:t>Coop K-PAX – Coop La Rete – ASST Sped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ptos"/>
                <a:ea typeface="Calibri"/>
              </a:rPr>
              <a:t>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ptos"/>
                <a:ea typeface="Calibri"/>
              </a:rPr>
              <a:t>Civili – Comune di Bres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pt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ptos"/>
              </a:rPr>
              <a:t>Marginalità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2:51:51Z</dcterms:created>
  <dc:creator>lucia inn</dc:creator>
  <dc:description/>
  <dc:language>en-US</dc:language>
  <cp:lastModifiedBy>Tura Giovanni Battista</cp:lastModifiedBy>
  <dcterms:modified xsi:type="dcterms:W3CDTF">2023-11-06T16:45:33Z</dcterms:modified>
  <cp:revision>148</cp:revision>
  <dc:subject/>
  <dc:title>TITOLO TITOLO TITOLO TITOLO TITOLO TITOLO</dc:title>
</cp:coreProperties>
</file>